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CD2-38FE-45E4-92F6-ED7FEBFB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853-2575-4784-B4CF-2C230025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54F-7F4C-41D0-B318-B98F1DE5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75C-6799-4AEB-A42A-F88761DD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840-6582-4D8A-8644-CFB32C17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6D7-903B-4B26-9CBC-8758DD04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E8A-B241-4BE4-BA35-53AC805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9FE-841E-46F8-A455-7A41E697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D9E-CF1A-4892-9C9A-828C06B0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F5D-4B7E-4F30-A2A7-BDE4E6D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CA8-F0A6-48D8-9F61-0E2F9E85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690-D4BD-4631-965D-986EF4C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54DC-366E-4B82-88AF-B9088C018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sking Questions While You Read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indMap for A Fine, Fine Scho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dia Ben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le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.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the last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84480" cy="32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253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29:15Z</dcterms:created>
  <dc:creator> </dc:creator>
  <dc:description/>
  <dc:language>en-US</dc:language>
  <cp:lastModifiedBy> </cp:lastModifiedBy>
  <dcterms:modified xsi:type="dcterms:W3CDTF">2010-02-26T20:16:40Z</dcterms:modified>
  <cp:revision>4</cp:revision>
  <dc:subject/>
  <dc:title>iMindMap for A Fine, Fine School  </dc:title>
</cp:coreProperties>
</file>