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9B0-CB81-41FF-99BD-ECDB7CAB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7C7-3ED2-4312-9D8C-061E4D72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7C7-3C8E-4EFC-921E-5158BA5A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9C3-1F6F-4F83-93A2-9BBE2DD5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8F2-F0EE-46FC-A946-607D96FD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BC5-5163-482A-930D-006711F6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952-3192-48A8-BD3C-42A8E50F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6B3-0E02-4022-8814-6175E27D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CEF-9FE7-4700-8247-FC2EA572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7E0-0E6A-42D9-A682-26909B5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0A2-1F41-457C-A25E-B29C4E9D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346-A077-41CA-AE21-347DF7EB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CF77-9DCD-4D4D-AC18-1A8E7666A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sking Questions While You Read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indMap for A Fine, Fine Schoo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dia Ben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le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.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the last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184480" cy="327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2539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29:15Z</dcterms:created>
  <dc:creator> </dc:creator>
  <dc:description/>
  <dc:language>en-US</dc:language>
  <cp:lastModifiedBy> </cp:lastModifiedBy>
  <dcterms:modified xsi:type="dcterms:W3CDTF">2010-02-26T20:16:40Z</dcterms:modified>
  <cp:revision>4</cp:revision>
  <dc:subject/>
  <dc:title>iMindMap for A Fine, Fine School  </dc:title>
</cp:coreProperties>
</file>