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ABB-5132-43A7-9AD0-A5B44357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4E18-FB11-44F4-94FD-A7A0F625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3829-006A-4BAD-BA4C-DFF302E9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1BB-146B-4F8A-A2E7-4C74F522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E98E-5180-4E95-83C5-9321AF2D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9A8E-D6E6-4201-B3E0-6BE16DA5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FBFD-373D-4D1B-9AC5-FB0C5E3A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AA4A-AE17-4903-9552-DDB60916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C8EC-97B0-4D43-B52C-8CEAE13B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2E7-A2A6-46C1-95A2-33E61C39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2AB5-8B8A-4AC8-B11E-7885C5A2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3170-4AC9-4ACE-B663-1DA30308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1444-78F2-4733-A635-331978788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sking Questions While You Read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indMap for A Fine, Fine School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dia Bent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lef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. 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t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the last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2184480" cy="327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8120" y="2286000"/>
            <a:ext cx="2539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9:29:15Z</dcterms:created>
  <dc:creator> </dc:creator>
  <dc:description/>
  <dc:language>en-US</dc:language>
  <cp:lastModifiedBy> </cp:lastModifiedBy>
  <dcterms:modified xsi:type="dcterms:W3CDTF">2010-02-26T20:16:40Z</dcterms:modified>
  <cp:revision>4</cp:revision>
  <dc:subject/>
  <dc:title>iMindMap for A Fine, Fine School  </dc:title>
</cp:coreProperties>
</file>