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AA7-C1EE-4F88-9CC0-6C74F4E3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368-5C25-46FA-A0AB-293BF971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7C1-F176-4040-8F70-C7D5AF7B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A78-5966-4285-A1B6-F53F2F64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E68-AAD7-4C4B-9C95-F57A0131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ADB3-23B8-45E1-AB17-42214258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42AB-D43C-4711-AFA9-C9C20B17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3DD6-C7E0-436C-BAB8-D7426FD7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0B5-7825-4F0B-BB5F-4ED9A874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7EA3-1FD8-4B7E-B94C-0616E66F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33A-B51C-430C-8FA0-A5A468EA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ACD-D951-420B-A7AA-5D55B35B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4583-285D-4A96-9A97-14DFE63F9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sking Questions While You Read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indMap for A Fine, Fine School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dia Bent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lef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. 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t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the last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2184480" cy="327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8120" y="2286000"/>
            <a:ext cx="2539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9:29:15Z</dcterms:created>
  <dc:creator> </dc:creator>
  <dc:description/>
  <dc:language>en-US</dc:language>
  <cp:lastModifiedBy> </cp:lastModifiedBy>
  <dcterms:modified xsi:type="dcterms:W3CDTF">2010-02-26T20:16:40Z</dcterms:modified>
  <cp:revision>4</cp:revision>
  <dc:subject/>
  <dc:title>iMindMap for A Fine, Fine School  </dc:title>
</cp:coreProperties>
</file>