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28C6-43FC-420E-9BCB-B556C9CF5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02F2-2296-48BB-B5BA-9275AFB6D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C81B-87AD-4AA1-8886-1B2FE2638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497D-A501-4BBA-8257-3AA81FE84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27F6-C422-409D-A362-E04B21AAA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020E-DC06-4DD0-BF73-A3E5318D4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52CC-597D-43B4-ABDE-EF432267D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8679-7DE0-480B-A170-2CCA75E8A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0421-49F7-4744-A227-9901CADD9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79A7-C316-4D08-A108-F28DBB6D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F7F5-7F86-40FB-80BB-D0116AF3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8A3B-9258-4D1B-B80B-5BFBD580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44732-869B-4C7B-BF89-4779E6813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8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sking Questions While You Read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indMap for A Fine, Fine School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ydia Bent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g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the lef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tle. To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ht the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so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3048120" cy="4572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638680" y="1523880"/>
            <a:ext cx="3048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3048120" cy="4572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638680" y="1600200"/>
            <a:ext cx="3048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g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are the last 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38080" y="2819520"/>
            <a:ext cx="2184480" cy="3276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638680" y="1523880"/>
            <a:ext cx="3048120" cy="4572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3048120" y="2286000"/>
            <a:ext cx="25398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6T19:29:15Z</dcterms:created>
  <dc:creator> </dc:creator>
  <dc:description/>
  <dc:language>en-US</dc:language>
  <cp:lastModifiedBy> </cp:lastModifiedBy>
  <dcterms:modified xsi:type="dcterms:W3CDTF">2010-02-26T20:16:40Z</dcterms:modified>
  <cp:revision>4</cp:revision>
  <dc:subject/>
  <dc:title>iMindMap for A Fine, Fine School  </dc:title>
</cp:coreProperties>
</file>