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90F-05D1-4658-9B28-DFCA19B4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9B6-8910-4D62-A70D-5BAB6F93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047-489C-4E52-88B0-5A78F93E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9D5-9312-418E-B5A8-F894EBF1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8B2-2484-4DD3-AAEC-92EFC795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5B8-F2DE-4DD1-9397-9C6FFC5E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4A2-EC69-4DB2-B38A-01AC5C6F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2CA-9BCF-4D98-A077-B9341DFE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8F3-D18F-49F5-B633-A9CB50D2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E78-32B4-4224-ACE7-AC9AF97C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6C9-7CF0-428C-9A4F-DA09224A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D21-EF0D-4584-936F-92C0BD6C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C6AB-7EB6-4381-85C1-0CDBB126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sking Questions While You Read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indMap for A Fine, Fine Schoo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dia Ben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le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.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the last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84480" cy="32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253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29:15Z</dcterms:created>
  <dc:creator> </dc:creator>
  <dc:description/>
  <dc:language>en-US</dc:language>
  <cp:lastModifiedBy> </cp:lastModifiedBy>
  <dcterms:modified xsi:type="dcterms:W3CDTF">2010-02-26T20:16:40Z</dcterms:modified>
  <cp:revision>4</cp:revision>
  <dc:subject/>
  <dc:title>iMindMap for A Fine, Fine School  </dc:title>
</cp:coreProperties>
</file>